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highchime.wav" ContentType="audio/x-wav"/>
  <Override PartName="/ppt/media/hzipup01.wav" ContentType="audio/x-wav"/>
  <Override PartName="/ppt/media/zipby102.wav" ContentType="audio/x-wav"/>
  <Override PartName="/ppt/media/boinng04.wav" ContentType="audio/x-wav"/>
  <Override PartName="/ppt/media/fastcar.wav" ContentType="audio/x-wav"/>
  <Override PartName="/ppt/media/zapvib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78A-7662-4498-85EB-89306AF2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DAE-B386-4D64-AD67-17C6190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157-62A3-4296-9401-CE6916E8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62E-F2FB-4A7A-B73E-5641ED8C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BE3-225B-4EF7-BCE4-D5DB427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5B8-4545-460C-BEA4-3B621BA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04C-DE40-4FAF-BC1E-F07AA34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34F-67B7-4199-96B7-18A44AF5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B5B-2DD4-4341-A57B-110AD22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160-4B81-4E7E-ADD6-A321E172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400-B5F3-4EB8-959F-1FFC571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AB2-F8EC-441F-9A4E-D3E1AB2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904-8334-401F-AF48-99C17241C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oinng04.wav"/><Relationship Id="rId9" Type="http://schemas.openxmlformats.org/officeDocument/2006/relationships/audio" Target="../media/zapbig0g.wav"/><Relationship Id="rId10" Type="http://schemas.openxmlformats.org/officeDocument/2006/relationships/audio" Target="../media/highchime.wav"/><Relationship Id="rId11" Type="http://schemas.openxmlformats.org/officeDocument/2006/relationships/audio" Target="../media/boinng04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highchime.wav"/><Relationship Id="rId17" Type="http://schemas.openxmlformats.org/officeDocument/2006/relationships/audio" Target="../media/boinng04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oinng04.wav"/><Relationship Id="rId21" Type="http://schemas.openxmlformats.org/officeDocument/2006/relationships/audio" Target="../media/zapbig0g.wav"/><Relationship Id="rId22" Type="http://schemas.openxmlformats.org/officeDocument/2006/relationships/audio" Target="../media/highchime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oinng04.wav"/><Relationship Id="rId26" Type="http://schemas.openxmlformats.org/officeDocument/2006/relationships/audio" Target="../media/zapvib04.wav"/><Relationship Id="rId27" Type="http://schemas.openxmlformats.org/officeDocument/2006/relationships/audio" Target="../media/zapbig0g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oinng04.wav"/><Relationship Id="rId6" Type="http://schemas.openxmlformats.org/officeDocument/2006/relationships/audio" Target="../media/zapvib04.wav"/><Relationship Id="rId7" Type="http://schemas.openxmlformats.org/officeDocument/2006/relationships/audio" Target="../media/zapbig0g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oinng04.wav"/><Relationship Id="rId12" Type="http://schemas.openxmlformats.org/officeDocument/2006/relationships/audio" Target="../media/zapbig0g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oinng04.wav"/><Relationship Id="rId17" Type="http://schemas.openxmlformats.org/officeDocument/2006/relationships/audio" Target="../media/zapbig0g.wav"/><Relationship Id="rId18" Type="http://schemas.openxmlformats.org/officeDocument/2006/relationships/audio" Target="../media/highchime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oinng04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ighchime.wav"/><Relationship Id="rId12" Type="http://schemas.openxmlformats.org/officeDocument/2006/relationships/audio" Target="../media/hzipup01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zipup01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71560" y="2505240"/>
                <a:ext cx="1343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27000" y="3611520"/>
                <a:ext cx="1244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1989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19240" y="3116160"/>
                <a:ext cx="12319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9 to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64200" y="2482920"/>
                <a:ext cx="139860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46640" y="358920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545160" y="31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967440" y="3049560"/>
                <a:ext cx="1959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842000" y="191772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48 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0040" y="3017880"/>
                <a:ext cx="22957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41560" y="3009960"/>
                <a:ext cx="201456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838600" y="5459400"/>
                <a:ext cx="8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863800" y="1871640"/>
                <a:ext cx="89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5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11760" y="3206880"/>
                <a:ext cx="6174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308560" y="3573360"/>
                <a:ext cx="1855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49120" y="3017880"/>
                <a:ext cx="26863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74880" y="3009960"/>
                <a:ext cx="23497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38600" y="5459400"/>
                <a:ext cx="8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63800" y="1871640"/>
                <a:ext cx="89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6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97160" y="3178080"/>
                <a:ext cx="5623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03720" y="3559320"/>
                <a:ext cx="258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9, 10 – 3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1, 10 – 4 #1-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3, 10 – 5 #1-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1520" y="3251160"/>
                <a:ext cx="134172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65520" y="4357800"/>
                <a:ext cx="12448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4400" y="394488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40400" y="3890880"/>
                <a:ext cx="16225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96920" y="20192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2211480"/>
          <a:ext cx="3017880" cy="3017880"/>
        </p:xfrm>
        <a:graphic>
          <a:graphicData uri="http://schemas.openxmlformats.org/drawingml/2006/table">
            <a:tbl>
              <a:tblPr/>
              <a:tblGrid>
                <a:gridCol w="301680"/>
                <a:gridCol w="301680"/>
                <a:gridCol w="301680"/>
                <a:gridCol w="301320"/>
                <a:gridCol w="303480"/>
                <a:gridCol w="301680"/>
                <a:gridCol w="30132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487760" y="20559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83 parts sha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62480" y="26290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00 parts i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41320" y="4897440"/>
                <a:ext cx="1397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22320" y="600408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226200" y="5576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92760" y="5464080"/>
                <a:ext cx="1959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25360" y="1816200"/>
            <a:ext cx="25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84080" y="2008080"/>
          <a:ext cx="3017880" cy="3017880"/>
        </p:xfrm>
        <a:graphic>
          <a:graphicData uri="http://schemas.openxmlformats.org/drawingml/2006/table">
            <a:tbl>
              <a:tblPr/>
              <a:tblGrid>
                <a:gridCol w="301680"/>
                <a:gridCol w="301680"/>
                <a:gridCol w="301680"/>
                <a:gridCol w="301320"/>
                <a:gridCol w="303480"/>
                <a:gridCol w="301680"/>
                <a:gridCol w="30132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6560" y="2000160"/>
          <a:ext cx="3017880" cy="301788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1680"/>
                <a:gridCol w="301680"/>
                <a:gridCol w="303120"/>
                <a:gridCol w="301680"/>
                <a:gridCol w="30168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51000" y="4897440"/>
                <a:ext cx="195588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59040" y="604512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162320" y="4897440"/>
                <a:ext cx="201312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99160" y="604512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22360" y="1935000"/>
                <a:ext cx="25192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decimal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82680" y="3051000"/>
                <a:ext cx="1571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279520" y="25304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5"/>
          </p:cNvCxnSpPr>
          <p:nvPr/>
        </p:nvCxnSpPr>
        <p:spPr>
          <a:xfrm flipV="1" rot="16200000">
            <a:off x="2109960" y="23893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1648080" y="23925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386000" y="25099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156280" y="1927080"/>
                <a:ext cx="2463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89600" y="3043080"/>
                <a:ext cx="1571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86440" y="25225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5"/>
          </p:cNvCxnSpPr>
          <p:nvPr/>
        </p:nvCxnSpPr>
        <p:spPr>
          <a:xfrm flipV="1" rot="16200000">
            <a:off x="6716880" y="2381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6255000" y="23846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992920" y="25020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6800" y="4213080"/>
                <a:ext cx="2855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42040"/>
                <a:ext cx="14605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611440" y="48513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5"/>
          </p:cNvCxnSpPr>
          <p:nvPr/>
        </p:nvCxnSpPr>
        <p:spPr>
          <a:xfrm flipV="1" rot="16200000">
            <a:off x="2441880" y="4710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flipV="1" rot="16200000">
            <a:off x="1979640" y="47134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717560" y="48308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83360" y="4191120"/>
                <a:ext cx="307944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52960" y="5335560"/>
                <a:ext cx="1967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2" name=""/>
          <p:cNvCxnSpPr/>
          <p:nvPr/>
        </p:nvCxnSpPr>
        <p:spPr>
          <a:xfrm flipV="1" rot="16200000">
            <a:off x="6859800" y="46580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flipV="1" rot="16200000">
            <a:off x="6397920" y="46609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135840" y="477828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127920" y="41972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800" y="1906560"/>
                <a:ext cx="2070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percent for each dec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1440" y="298620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1" name=""/>
          <p:cNvCxnSpPr/>
          <p:nvPr/>
        </p:nvCxnSpPr>
        <p:spPr>
          <a:xfrm flipV="1" rot="16200000">
            <a:off x="2162520" y="23371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2640240" y="232740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68480" y="24829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63760" y="19177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94160" y="1870200"/>
                <a:ext cx="27417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86560" y="294948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7" name=""/>
          <p:cNvCxnSpPr/>
          <p:nvPr/>
        </p:nvCxnSpPr>
        <p:spPr>
          <a:xfrm flipV="1" rot="16200000">
            <a:off x="6407280" y="230040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 rot="16200000">
            <a:off x="6885360" y="2291040"/>
            <a:ext cx="7200" cy="484560"/>
          </a:xfrm>
          <a:prstGeom prst="curvedConnector5">
            <a:avLst>
              <a:gd name="adj1" fmla="val -3347368"/>
              <a:gd name="adj2" fmla="val 49962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7113600" y="24462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2280" y="4127400"/>
                <a:ext cx="26859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19200" y="5207040"/>
                <a:ext cx="1963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2" name=""/>
          <p:cNvCxnSpPr/>
          <p:nvPr/>
        </p:nvCxnSpPr>
        <p:spPr>
          <a:xfrm flipV="1" rot="16200000">
            <a:off x="2408400" y="45579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 rot="16200000">
            <a:off x="2886120" y="4548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14720" y="47037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71920" y="4032360"/>
                <a:ext cx="31338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834160" y="5156280"/>
                <a:ext cx="1852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7" name=""/>
          <p:cNvCxnSpPr/>
          <p:nvPr/>
        </p:nvCxnSpPr>
        <p:spPr>
          <a:xfrm flipV="1" rot="16200000">
            <a:off x="6464520" y="4521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6942240" y="45118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70840" y="46674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5520" y="1979640"/>
                <a:ext cx="2798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fraction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68320" y="282888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22320" y="393552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062000" y="4645080"/>
                <a:ext cx="162864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08160" y="2959200"/>
                <a:ext cx="11224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00240" y="3852720"/>
                <a:ext cx="1122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7040" y="5745240"/>
                <a:ext cx="1008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721400" y="1943280"/>
                <a:ext cx="2463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68800" y="277956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22800" y="388620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495760" y="466740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81640" y="2938320"/>
                <a:ext cx="1177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272280" y="3830760"/>
                <a:ext cx="1179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130800" y="5767560"/>
                <a:ext cx="952560" cy="84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7040" y="1979640"/>
                <a:ext cx="3135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fraction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41320" y="2828880"/>
                <a:ext cx="1397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22320" y="393552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43160" y="3435480"/>
                <a:ext cx="1066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13000" y="283536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67000" y="394164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00320" y="4687920"/>
                <a:ext cx="185256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21080" y="2944800"/>
                <a:ext cx="1516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313160" y="3838680"/>
                <a:ext cx="1516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170240" y="5786280"/>
                <a:ext cx="6159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34800" y="1666800"/>
                <a:ext cx="26305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936880" y="2246400"/>
                <a:ext cx="185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440" y="3909960"/>
                <a:ext cx="26305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63800" y="4518000"/>
                <a:ext cx="2247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1800" y="3003480"/>
                <a:ext cx="22384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41560" y="3009960"/>
                <a:ext cx="201456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98920" y="5432400"/>
                <a:ext cx="1176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24120" y="1843200"/>
                <a:ext cx="11779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4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43280" y="3179880"/>
                <a:ext cx="955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13440" y="3573360"/>
                <a:ext cx="2247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3-12T18:26:24Z</dcterms:modified>
  <cp:revision>88</cp:revision>
  <dc:subject/>
  <dc:title>Slide 1</dc:title>
</cp:coreProperties>
</file>